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6244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240" y="-360"/>
            <a:ext cx="6629400" cy="497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산돌고딕B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-360" y="5114880"/>
            <a:ext cx="681516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6244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B6C7602-B521-4E37-8361-F468F07F3FE8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400" y="0"/>
            <a:ext cx="6629400" cy="49719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-360" y="5114880"/>
            <a:ext cx="681516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왕립과학아카데미의 거대한 렌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4B3-E1E5-4084-A795-2BD72672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21F-A350-4CBC-BDE2-8F8B01E3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5E6-304F-4D5A-B5E4-7EFC0B20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F96-EE44-4825-93C6-2E098029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9038-C6FB-4B38-9B09-07264BFA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0A6F-22E5-4A6B-88F6-B298745F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13EB-D395-4F2E-ABD3-BFE8CA8A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F5DA-12B5-42B9-BB8F-A56C22F2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00F5-8808-4848-9F9E-2C8559FB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8A62-7DC2-47A8-BA16-DFE4EB2F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31F8-11FA-49DD-AF52-5F56311D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BB26-4617-4CEA-AC47-E4B8980D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20A5-8866-4DBD-A785-E1A5783E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2824-A3A5-45D7-9E39-D1FF4509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C7D2-006D-4D0B-B470-9CCD29D1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A64C-3840-4D3B-886C-CDC56CDF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3C53-B52B-4863-9F17-F74B361C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CF7-E8A3-4123-9B8A-2876E58B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FF7B-515F-40B6-B601-0A263CF1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AD9-DAE4-45D5-8CE8-FB5826D2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873-A6D1-4DE1-8D1D-6AD1D5B4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D68-84A0-447A-BF75-C50B45C9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AEA-8A34-4976-A5D4-690F06F4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E84-4131-41A9-A0E1-DA375434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산돌고딕B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B406-14FD-4D55-A716-E365C75B0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산돌고딕B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39ED-A124-4229-BC0A-5E75215A7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산돌고딕B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산돌고딕B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산돌고딕 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 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hyperlink" Target="http://www.amazon.com/gp/product/images/0888782446/ref=dp_image_0/104-8852815-9966305?ie=UTF8&amp;n=283155&amp;s=books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산돌고딕B"/>
              </a:rPr>
              <a:t>기술결정론</a:t>
            </a:r>
            <a:endParaRPr b="1" lang="en-US" sz="4800" spc="-1" strike="noStrike">
              <a:solidFill>
                <a:srgbClr val="cc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6021000"/>
            <a:ext cx="7929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B"/>
              </a:rPr>
              <a:t>Currier &amp; Ives, “The Progress of the Century” (1876)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799308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6092640"/>
            <a:ext cx="7929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John Gast, “American Progress” (1872)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77770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산돌고딕B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1483920"/>
            <a:ext cx="7929360" cy="2227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1280" y="5876640"/>
            <a:ext cx="7929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1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산돌고딕B"/>
              </a:rPr>
              <a:t>Currier &amp; Ives, “Across the Continent Westward the Course” (1868)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84360" y="811080"/>
            <a:ext cx="79200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5805360"/>
            <a:ext cx="7929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Leydenfrost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의 그림 </a:t>
            </a:r>
            <a:r>
              <a:rPr b="1" lang="ko-KR" sz="2000" spc="-1" strike="noStrike">
                <a:solidFill>
                  <a:srgbClr val="000000"/>
                </a:solidFill>
                <a:latin typeface="산돌고딕B"/>
              </a:rPr>
              <a:t>in “Science on March” (1952)</a:t>
            </a:r>
            <a:endParaRPr b="1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784836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[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인간</a:t>
            </a:r>
            <a:r>
              <a:rPr b="1" lang="en-US" sz="3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기술</a:t>
            </a:r>
            <a:r>
              <a:rPr b="1" lang="en-US" sz="3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사회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]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의 변형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	</a:t>
            </a:r>
            <a:r>
              <a:rPr b="1" lang="zh-CN" sz="2600" spc="-1" strike="noStrike">
                <a:solidFill>
                  <a:srgbClr val="336699"/>
                </a:solidFill>
                <a:latin typeface="산돌고딕B"/>
              </a:rPr>
              <a:t>만약 인간이 기술을 만드는 것과 무관하게 </a:t>
            </a:r>
            <a:br>
              <a:rPr sz="2600"/>
            </a:br>
            <a:r>
              <a:rPr b="1" lang="zh-CN" sz="2600" spc="-1" strike="noStrike">
                <a:solidFill>
                  <a:srgbClr val="336699"/>
                </a:solidFill>
                <a:latin typeface="산돌고딕B"/>
              </a:rPr>
              <a:t>기술이 사회를 만든다면</a:t>
            </a:r>
            <a:r>
              <a:rPr b="1" lang="en-US" sz="2600" spc="-1" strike="noStrike">
                <a:solidFill>
                  <a:srgbClr val="336699"/>
                </a:solidFill>
                <a:latin typeface="산돌고딕B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유형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의 기술결정론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zh-CN" sz="2600" spc="-1" strike="noStrike">
                <a:solidFill>
                  <a:srgbClr val="dddddd"/>
                </a:solidFill>
                <a:latin typeface="산돌고딕B"/>
              </a:rPr>
              <a:t>인간 </a:t>
            </a:r>
            <a:r>
              <a:rPr b="1" lang="en-US" sz="2600" spc="-1" strike="noStrike">
                <a:solidFill>
                  <a:srgbClr val="dddddd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 기술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 사회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인간과 무관하게 기술이 “의도치 않은 귀결”을 만들어냄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	</a:t>
            </a:r>
            <a:r>
              <a:rPr b="1" lang="zh-CN" sz="2600" spc="-1" strike="noStrike">
                <a:solidFill>
                  <a:srgbClr val="336699"/>
                </a:solidFill>
                <a:latin typeface="산돌고딕B"/>
              </a:rPr>
              <a:t>인간도 사회의 일부이므로</a:t>
            </a:r>
            <a:r>
              <a:rPr b="1" lang="en-US" sz="2600" spc="-1" strike="noStrike">
                <a:solidFill>
                  <a:srgbClr val="336699"/>
                </a:solidFill>
                <a:latin typeface="산돌고딕B"/>
              </a:rPr>
              <a:t>,</a:t>
            </a:r>
            <a:br>
              <a:rPr sz="2600"/>
            </a:br>
            <a:r>
              <a:rPr b="1" lang="zh-CN" sz="2600" spc="-1" strike="noStrike">
                <a:solidFill>
                  <a:srgbClr val="336699"/>
                </a:solidFill>
                <a:latin typeface="산돌고딕B"/>
              </a:rPr>
              <a:t>유형 </a:t>
            </a:r>
            <a:r>
              <a:rPr b="1" lang="en-US" sz="2600" spc="-1" strike="noStrike">
                <a:solidFill>
                  <a:srgbClr val="336699"/>
                </a:solidFill>
                <a:latin typeface="산돌고딕B"/>
              </a:rPr>
              <a:t>1</a:t>
            </a:r>
            <a:r>
              <a:rPr b="1" lang="zh-CN" sz="2600" spc="-1" strike="noStrike">
                <a:solidFill>
                  <a:srgbClr val="336699"/>
                </a:solidFill>
                <a:latin typeface="산돌고딕B"/>
              </a:rPr>
              <a:t>의 관계는 더 진행되어 아래처럼 될 수 있음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유형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의 기술결정론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en-US" sz="2600" spc="-1" strike="noStrike">
                <a:solidFill>
                  <a:srgbClr val="dddddd"/>
                </a:solidFill>
                <a:latin typeface="산돌고딕B"/>
              </a:rPr>
              <a:t>(</a:t>
            </a:r>
            <a:r>
              <a:rPr b="1" lang="zh-CN" sz="2600" spc="-1" strike="noStrike">
                <a:solidFill>
                  <a:srgbClr val="dddddd"/>
                </a:solidFill>
                <a:latin typeface="산돌고딕B"/>
              </a:rPr>
              <a:t>인간 </a:t>
            </a:r>
            <a:r>
              <a:rPr b="1" lang="en-US" sz="2600" spc="-1" strike="noStrike">
                <a:solidFill>
                  <a:srgbClr val="dddddd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dddddd"/>
                </a:solidFill>
                <a:latin typeface="산돌고딕B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기술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[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인간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산돌고딕B"/>
              </a:rPr>
              <a:t>사회</a:t>
            </a:r>
            <a:r>
              <a:rPr b="1" lang="en-US" sz="2600" spc="-1" strike="noStrike">
                <a:solidFill>
                  <a:srgbClr val="000000"/>
                </a:solidFill>
                <a:latin typeface="산돌고딕B"/>
              </a:rPr>
              <a:t>]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인간의 통제를 벗어난 </a:t>
            </a:r>
            <a:r>
              <a:rPr b="1" lang="en-US" sz="2200" spc="-1" strike="noStrike">
                <a:solidFill>
                  <a:srgbClr val="000000"/>
                </a:solidFill>
                <a:latin typeface="산돌고딕 M"/>
              </a:rPr>
              <a:t>or </a:t>
            </a: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자율적 기술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산돌고딕 M"/>
              </a:rPr>
              <a:t>인간의 주인이 된 기술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기술에 대한 비관적 인식의 출처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핵무기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, DDT,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자동차 …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의도하지 않은 귀결들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쉽게 통제되지 않음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핵무기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DDT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자동차가 가져다 준 위험과 환경파괴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핵무기 억제노력의 실패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자동차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-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석유 시스템의 강고함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기술에 대한 비관적 견해의 등장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의 발전과 인간의 행복이 일치하지 않음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“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적 합리성”과 “시스템”에 대한 공격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루이스 멈포드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&lt;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계의 신화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gt;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의 “거대기계”론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자크 엘륄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&lt;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 사회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gt;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의 “자율적 기술”론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을 여전히 사회적 변화의 최전선에 위치시키고 있음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즉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이들도 “기술결정론자”임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유형 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2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의 기술결정론 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: “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자율적 기술”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살아있는 기계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인간은 그것의 부품이 되는…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수많은 문학작품과 영화의 모티브가 됨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블레이드러너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안드로이드가 인간의 감정을 가짐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콜로수스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국방용 컴퓨터가 지능을 가짐 </a:t>
            </a: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인간 지배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매트릭스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아이로봇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스텔스 …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  <p:pic>
        <p:nvPicPr>
          <p:cNvPr id="131" name="" descr="Movie Poster Image for Colossus: The Forbin Project"/>
          <p:cNvPicPr/>
          <p:nvPr/>
        </p:nvPicPr>
        <p:blipFill>
          <a:blip r:embed="rId2"/>
          <a:stretch/>
        </p:blipFill>
        <p:spPr>
          <a:xfrm>
            <a:off x="2916360" y="3645000"/>
            <a:ext cx="1909800" cy="2836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19280" y="3645000"/>
            <a:ext cx="2162160" cy="280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Movie Poster Image for The Matrix"/>
          <p:cNvPicPr/>
          <p:nvPr/>
        </p:nvPicPr>
        <p:blipFill>
          <a:blip r:embed="rId4"/>
          <a:stretch/>
        </p:blipFill>
        <p:spPr>
          <a:xfrm>
            <a:off x="4861080" y="3716280"/>
            <a:ext cx="17571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하먼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이 기계들을 보면 왠지 그런 생각이 들어 우리도 마찬가지로 이 기계들에 연결되어 있는 게 아닐까 하는 생각 말이야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네오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하지만 우리들은 이 기계들을 지배하잖아요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이 기계들이 우릴 지배하는 게 아니고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하먼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물론이지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이것들이 우릴 어떻게 지배하겠어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바보 같은 생각이지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하지만 말이야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도대체 지배라는 게 뭘까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네오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우리가 원하면 이 기계들을 꺼버릴 수 있죠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하먼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물론 그렇지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자네가 정곡을 찔렀네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바로 그게 지배지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안 그래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?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우리가 원하기만 하면 이 기계들을 아주 박살을 낼 수 있지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물론 그러고 나면 조명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난방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공기 등은 어떻게 해결할지 생각은 해봐야지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다시 이에 대한 비판은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?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유형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1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의 기술결정론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(</a:t>
            </a:r>
            <a:r>
              <a:rPr b="1" lang="ko-KR" sz="2600" spc="-1" strike="noStrike">
                <a:solidFill>
                  <a:srgbClr val="dddddd"/>
                </a:solidFill>
                <a:latin typeface="산돌고딕B"/>
              </a:rPr>
              <a:t>인간</a:t>
            </a:r>
            <a:r>
              <a:rPr b="1" lang="ko-KR" sz="2600" spc="-1" strike="noStrike">
                <a:solidFill>
                  <a:srgbClr val="dddddd"/>
                </a:solidFill>
                <a:latin typeface="Wingdings"/>
                <a:ea typeface="Wingdings"/>
              </a:rPr>
              <a:t>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기술</a:t>
            </a:r>
            <a:r>
              <a:rPr b="1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사회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의도치 않은 귀결이라는 것은 무엇이나 있음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인간이 분명히 기술을 만들어 내는 과정은 간과될 수 없음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사회 </a:t>
            </a: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기술 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기술의 사회적 형성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(Social Shaping of Technology)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기술의 사회적 구성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(Social Construction of Technology)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유형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2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의 기술결정론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(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기술</a:t>
            </a:r>
            <a:r>
              <a:rPr b="1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[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인간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+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사회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])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이 인간의 주인이 된다는 것은 환상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은 생명력을 가지는 것이 아니라 모멘텀을 가질 뿐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기술결정론이란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?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보통 두 가지 논제의 결합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기술의 발전경로는 독자적으로 결정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2" marL="129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산돌고딕 L"/>
              </a:rPr>
              <a:t>사회와 또는 인간과 무관한 </a:t>
            </a:r>
            <a:r>
              <a:rPr b="1" lang="en-US" sz="2300" spc="-1" strike="noStrike">
                <a:solidFill>
                  <a:srgbClr val="000000"/>
                </a:solidFill>
                <a:latin typeface="산돌고딕 L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산돌고딕 L"/>
              </a:rPr>
              <a:t>사회 변화의 독립 변수</a:t>
            </a:r>
            <a:r>
              <a:rPr b="1" lang="en-US" sz="2300" spc="-1" strike="noStrike">
                <a:solidFill>
                  <a:srgbClr val="000000"/>
                </a:solidFill>
                <a:latin typeface="산돌고딕 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기술은 사회를 변화시키거나 제약하는 원인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2" marL="129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산돌고딕 L"/>
              </a:rPr>
              <a:t>궁극적인 </a:t>
            </a:r>
            <a:r>
              <a:rPr b="1" lang="en-US" sz="2300" spc="-1" strike="noStrike">
                <a:solidFill>
                  <a:srgbClr val="000000"/>
                </a:solidFill>
                <a:latin typeface="산돌고딕 L"/>
              </a:rPr>
              <a:t>or </a:t>
            </a:r>
            <a:r>
              <a:rPr b="1" lang="zh-CN" sz="2300" spc="-1" strike="noStrike">
                <a:solidFill>
                  <a:srgbClr val="000000"/>
                </a:solidFill>
                <a:latin typeface="산돌고딕 L"/>
              </a:rPr>
              <a:t>가장 중요한 </a:t>
            </a:r>
            <a:r>
              <a:rPr b="1" lang="en-US" sz="2300" spc="-1" strike="noStrike">
                <a:solidFill>
                  <a:srgbClr val="000000"/>
                </a:solidFill>
                <a:latin typeface="산돌고딕 L"/>
              </a:rPr>
              <a:t>or </a:t>
            </a:r>
            <a:r>
              <a:rPr b="1" lang="zh-CN" sz="2300" spc="-1" strike="noStrike">
                <a:solidFill>
                  <a:srgbClr val="000000"/>
                </a:solidFill>
                <a:latin typeface="산돌고딕 L"/>
              </a:rPr>
              <a:t>상당히 중요한 원인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산돌고딕B"/>
              </a:rPr>
              <a:t>용어의 구분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강한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(hard) </a:t>
            </a: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기술결정론 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: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다른 요소들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법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제도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문화 등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과 함께 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사회를 특정한 방향으로 이끌어가는 “가능성” 제공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약한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(soft) </a:t>
            </a: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기술결정론 </a:t>
            </a:r>
            <a:r>
              <a:rPr b="1" lang="en-US" sz="2600" spc="-1" strike="noStrike">
                <a:solidFill>
                  <a:srgbClr val="000000"/>
                </a:solidFill>
                <a:latin typeface="산돌고딕 M"/>
              </a:rPr>
              <a:t>: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산돌고딕 M"/>
              </a:rPr>
              <a:t>특정한 기술이 “필연적으로” 특정한 사회를 낳음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유명한 비판 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사회 </a:t>
            </a:r>
            <a:r>
              <a:rPr b="1" lang="en-US" sz="3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 기술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산돌고딕B"/>
              </a:rPr>
              <a:t>기술의 사회적 형성론</a:t>
            </a:r>
            <a:endParaRPr b="1" lang="en-US" sz="25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사회적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이데올로기적 요소가 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산돌고딕 M"/>
              </a:rPr>
              <a:t>기술 디자인에 직접적인 영향 미침</a:t>
            </a:r>
            <a:endParaRPr b="1" lang="en-US" sz="24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산돌고딕 M"/>
              </a:rPr>
              <a:t>로버트 모제스의 존스 비치 공원과 도로</a:t>
            </a:r>
            <a:r>
              <a:rPr b="1" lang="ko-KR" sz="2500" spc="-1" strike="noStrike">
                <a:solidFill>
                  <a:srgbClr val="000000"/>
                </a:solidFill>
                <a:latin typeface="산돌고딕 M"/>
              </a:rPr>
              <a:t>&amp;</a:t>
            </a:r>
            <a:r>
              <a:rPr b="1" lang="ko-KR" sz="2500" spc="-1" strike="noStrike">
                <a:solidFill>
                  <a:srgbClr val="000000"/>
                </a:solidFill>
                <a:latin typeface="산돌고딕 M"/>
              </a:rPr>
              <a:t>다리</a:t>
            </a:r>
            <a:r>
              <a:rPr b="1" lang="ko-KR" sz="2500" spc="-1" strike="noStrike">
                <a:solidFill>
                  <a:srgbClr val="000000"/>
                </a:solidFill>
                <a:latin typeface="산돌고딕 M"/>
              </a:rPr>
              <a:t>(9</a:t>
            </a:r>
            <a:r>
              <a:rPr b="1" lang="ko-KR" sz="2500" spc="-1" strike="noStrike">
                <a:solidFill>
                  <a:srgbClr val="000000"/>
                </a:solidFill>
                <a:latin typeface="산돌고딕 M"/>
              </a:rPr>
              <a:t>피트</a:t>
            </a:r>
            <a:r>
              <a:rPr b="1" lang="ko-KR" sz="25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5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산돌고딕B"/>
              </a:rPr>
              <a:t>기술의 사회적 구성론 </a:t>
            </a:r>
            <a:r>
              <a:rPr b="1" lang="ko-KR" sz="2500" spc="-1" strike="noStrike">
                <a:solidFill>
                  <a:srgbClr val="000000"/>
                </a:solidFill>
                <a:latin typeface="산돌고딕B"/>
              </a:rPr>
              <a:t>: </a:t>
            </a:r>
            <a:r>
              <a:rPr b="1" lang="ko-KR" sz="2500" spc="-1" strike="noStrike">
                <a:solidFill>
                  <a:srgbClr val="000000"/>
                </a:solidFill>
                <a:latin typeface="산돌고딕B"/>
              </a:rPr>
              <a:t>다음 시간에…</a:t>
            </a:r>
            <a:endParaRPr b="1" lang="en-US" sz="25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3384360" cy="2538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924360" y="3860640"/>
            <a:ext cx="42480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대표적인 사례</a:t>
            </a:r>
            <a:r>
              <a:rPr b="1" lang="en-US" sz="3800" spc="-1" strike="noStrike">
                <a:solidFill>
                  <a:srgbClr val="cc0000"/>
                </a:solidFill>
                <a:latin typeface="산돌고딕B"/>
              </a:rPr>
              <a:t>?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9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린 화이트 주니어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(Lynn White Jr.)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의 등자 논제</a:t>
            </a:r>
            <a:br>
              <a:rPr sz="2600"/>
            </a:br>
            <a:r>
              <a:rPr b="1" i="1" lang="ko-KR" sz="2600" spc="-1" strike="noStrike">
                <a:solidFill>
                  <a:srgbClr val="000000"/>
                </a:solidFill>
                <a:latin typeface="산돌고딕B"/>
              </a:rPr>
              <a:t>Medieval Technology and Social Change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 (1962)</a:t>
            </a:r>
            <a:br>
              <a:rPr sz="2600"/>
            </a:b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“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등자의 도입이 중세 봉건제를 낳았다”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등자의 도입은 “기마충격전투”의 기병을 양성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프랑크왕국의 궁재 샤를 마르텔이 교회의 재산을 몰수하여 이들에게 나누어줌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8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세기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이것이 영주가 중심 세력으로 부상한 중세 봉건제도의 시작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16000" y="4076640"/>
            <a:ext cx="2251080" cy="2665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492360" y="4076640"/>
            <a:ext cx="2278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그 외의 사례들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인쇄술 혁명이 르네상스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종교개혁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과학혁명을 낳았다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해럴드 이니스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(Harold Innis)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시간 기반 매체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돌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진흙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무겁고 옮기기 힘듦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공간적 확장 불가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신성하고 도덕적인 힘 표현하는 데 용이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 위계적인 사회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공간 기반 매체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종이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옮기기 쉬움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공간적 확장 용이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세속적이고 팽창적인 사회와 부합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정보혁명이 아래의 것들을 낳을 것이다</a:t>
            </a:r>
            <a:r>
              <a:rPr b="1" lang="ko-KR" sz="21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1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Dis-intermediation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De-centralization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De-spacialization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De-massification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De-nationalization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M"/>
              </a:rPr>
              <a:t>Dis-aggregation</a:t>
            </a:r>
            <a:endParaRPr b="1" lang="en-US" sz="2000" spc="-1" strike="noStrike">
              <a:solidFill>
                <a:srgbClr val="000000"/>
              </a:solidFill>
              <a:latin typeface="산돌고딕 M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435640" y="4149720"/>
            <a:ext cx="136836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Empire and Communication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14972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기술결정론에 대한 비판들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스스로 “기술결정론자”라고 말하는 사람은 없음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등자 논제에 대한 비판은 어떻게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프랑크왕국과 비슷한 시기에 등자를 도입한 나라 중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봉건제가 확립되지 않은 나라도 있음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앵글로색슨족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의 발전과 그 사회적 영향은 기술만이 아니라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사회적 맥락에 따라서 달라짐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산돌고딕 L"/>
              </a:rPr>
              <a:t>인쇄술 </a:t>
            </a:r>
            <a:r>
              <a:rPr b="1" lang="ko-KR" sz="2000" spc="-1" strike="noStrike">
                <a:solidFill>
                  <a:srgbClr val="000000"/>
                </a:solidFill>
                <a:latin typeface="산돌고딕 L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산돌고딕 L"/>
              </a:rPr>
              <a:t>동양에서는 서양과 같은 “혁명”을 가져오지 않음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그렇다면 기술은 “양날의 칼”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은 어떻게 사용하는지에 따라서 그 발전과 용도가 달라짐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그러나 과연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?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가톨릭은 인쇄술을 완전히 자기편으로 만들 수 있었을까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양날의 칼 논제에 대한 재고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기술의 가치중립성 논제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 자체는 아무런 정치성이나 이념을 가지고 있지 않으며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사용하는 사람의 정치성이나 이념에 따라 기술이 이용된다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의 오용은 그것을 만든 엔지니어의 책임이 아니라 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정치인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/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업가와 같이 기술의 사용을 결정하는 사람의 책임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?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비판 지점들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의 디자인에 사회적 가치가 각인될 수 있음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로버트 모제스의 존스 비치 공원과 도로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&amp;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다리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총이나 칼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원자폭탄으로 할 수 있는 일은 그리 많지 않음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과 디자인이 기술시스템의 일부가 되면 모멘텀 생김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따라서 특정한 기술은 변경되기도 다른 것을 선택하기 어려움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전력시스템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자동차 시스템…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140360" y="2133720"/>
            <a:ext cx="4248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산돌고딕B"/>
              </a:rPr>
              <a:t>기술결정론에 대한 재고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“</a:t>
            </a:r>
            <a:r>
              <a:rPr b="1" lang="ko-KR" sz="3000" spc="-1" strike="noStrike">
                <a:solidFill>
                  <a:srgbClr val="000000"/>
                </a:solidFill>
                <a:latin typeface="산돌고딕B"/>
              </a:rPr>
              <a:t>인간이 세상을 만든다”는 명제</a:t>
            </a:r>
            <a:endParaRPr b="1" lang="en-US" sz="30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인간 </a:t>
            </a:r>
            <a:r>
              <a:rPr b="1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 세상 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문제는</a:t>
            </a:r>
            <a:r>
              <a:rPr b="1" lang="ko-KR" sz="2600" spc="-1" strike="noStrike">
                <a:solidFill>
                  <a:srgbClr val="000000"/>
                </a:solidFill>
                <a:latin typeface="산돌고딕 M"/>
              </a:rPr>
              <a:t>? </a:t>
            </a:r>
            <a:endParaRPr b="1" lang="en-US" sz="26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[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세상 </a:t>
            </a:r>
            <a:r>
              <a:rPr b="1" lang="ko-K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 인간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]</a:t>
            </a: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의 방향도 가능</a:t>
            </a:r>
            <a:br>
              <a:rPr sz="2300"/>
            </a:br>
            <a:r>
              <a:rPr b="1" lang="ko-KR" sz="2300" spc="-1" strike="noStrike">
                <a:solidFill>
                  <a:srgbClr val="000000"/>
                </a:solidFill>
                <a:latin typeface="산돌고딕 L"/>
              </a:rPr>
              <a:t>“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인간은 자기 자신의 역사를 만든다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.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그러나 자기 마음대로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즉 자신이 선택한 상황하에서 만드는 것이 아니라 이미 존재하는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주어진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물려받은 상황하에서 만든다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.” :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마르크스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, &lt;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루이 보나파르트와 브뤼메르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18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일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&gt;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인간 </a:t>
            </a:r>
            <a:r>
              <a:rPr b="0" lang="ko-K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 무엇 </a:t>
            </a:r>
            <a:r>
              <a:rPr b="0" lang="ko-K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 세상</a:t>
            </a:r>
            <a:br>
              <a:rPr sz="2300"/>
            </a:b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“무엇”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: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정치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법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경제체제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관습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언어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상징 등 포함</a:t>
            </a:r>
            <a:br>
              <a:rPr sz="2300"/>
            </a:br>
            <a:r>
              <a:rPr b="0" lang="ko-KR" sz="2300" spc="-1" strike="noStrike">
                <a:solidFill>
                  <a:srgbClr val="000000"/>
                </a:solidFill>
                <a:latin typeface="산돌고딕 L"/>
              </a:rPr>
              <a:t>그리고 “기술”도 당연히 포함</a:t>
            </a:r>
            <a:endParaRPr b="1" lang="en-US" sz="2300" spc="-1" strike="noStrike">
              <a:solidFill>
                <a:srgbClr val="000000"/>
              </a:solidFill>
              <a:latin typeface="산돌고딕 L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산돌고딕 L"/>
              </a:rPr>
              <a:t>따라서 </a:t>
            </a:r>
            <a:r>
              <a:rPr b="0" lang="ko-KR" sz="2000" spc="-1" strike="noStrike">
                <a:solidFill>
                  <a:srgbClr val="000000"/>
                </a:solidFill>
                <a:latin typeface="산돌고딕 L"/>
              </a:rPr>
              <a:t>[</a:t>
            </a:r>
            <a:r>
              <a:rPr b="0" lang="ko-KR" sz="2000" spc="-1" strike="noStrike">
                <a:solidFill>
                  <a:srgbClr val="000000"/>
                </a:solidFill>
                <a:latin typeface="산돌고딕 L"/>
              </a:rPr>
              <a:t>인간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산돌고딕 L"/>
              </a:rPr>
              <a:t> 기술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산돌고딕 L"/>
              </a:rPr>
              <a:t> 사회</a:t>
            </a:r>
            <a:r>
              <a:rPr b="0" lang="ko-KR" sz="2000" spc="-1" strike="noStrike">
                <a:solidFill>
                  <a:srgbClr val="000000"/>
                </a:solidFill>
                <a:latin typeface="산돌고딕 L"/>
              </a:rPr>
              <a:t>]</a:t>
            </a:r>
            <a:r>
              <a:rPr b="0" lang="ko-KR" sz="2000" spc="-1" strike="noStrike">
                <a:solidFill>
                  <a:srgbClr val="000000"/>
                </a:solidFill>
                <a:latin typeface="산돌고딕 L"/>
              </a:rPr>
              <a:t>는 자연스러운 생각</a:t>
            </a:r>
            <a:endParaRPr b="1" lang="en-US" sz="2000" spc="-1" strike="noStrike">
              <a:solidFill>
                <a:srgbClr val="000000"/>
              </a:solidFill>
              <a:latin typeface="산돌고딕 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산돌고딕B"/>
              </a:rPr>
              <a:t>기술결정론에 담긴 기술과 진보관</a:t>
            </a:r>
            <a:endParaRPr b="1" lang="en-US" sz="3800" spc="-1" strike="noStrike">
              <a:solidFill>
                <a:srgbClr val="cc0000"/>
              </a:solidFill>
              <a:latin typeface="산돌고딕B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18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세기 계몽주의자들의 기술과 진보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튀르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콩도르세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프랭클린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제퍼슨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인쇄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발달된 통신 수송기술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기술이란 지식과 상품의 “순환 시스템”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의 발전 </a:t>
            </a: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미신의 타파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진리의 확산 </a:t>
            </a: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역사의 진보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을 인간사회의 혁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진보를 위한 강력한 도구로 인식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20</a:t>
            </a:r>
            <a:r>
              <a:rPr b="1" lang="ko-KR" sz="2600" spc="-1" strike="noStrike">
                <a:solidFill>
                  <a:srgbClr val="000000"/>
                </a:solidFill>
                <a:latin typeface="산돌고딕B"/>
              </a:rPr>
              <a:t>세기 현대사회의 진보와 기술</a:t>
            </a:r>
            <a:endParaRPr b="1" lang="en-US" sz="2600" spc="-1" strike="noStrike">
              <a:solidFill>
                <a:srgbClr val="000000"/>
              </a:solidFill>
              <a:latin typeface="산돌고딕B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철도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전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전기와 같은 복잡한 기술시스템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&amp;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수많은 인공물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기술은 진보의 수단에서 진보 그 자체로 인식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효율성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질서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제어 등 기술의 가치들로 사회 영역 재구성 노력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기술관료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(technocracy)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운동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&amp; </a:t>
            </a:r>
            <a:r>
              <a:rPr b="1" lang="ko-KR" sz="2100" spc="-1" strike="noStrike">
                <a:solidFill>
                  <a:srgbClr val="000000"/>
                </a:solidFill>
                <a:latin typeface="산돌고딕 L"/>
              </a:rPr>
              <a:t>사회공학</a:t>
            </a:r>
            <a:endParaRPr b="1" lang="en-US" sz="2100" spc="-1" strike="noStrike">
              <a:solidFill>
                <a:srgbClr val="000000"/>
              </a:solidFill>
              <a:latin typeface="산돌고딕 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1960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년대 이에 대한 의심 </a:t>
            </a:r>
            <a:r>
              <a:rPr b="1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000000"/>
                </a:solidFill>
                <a:latin typeface="산돌고딕 M"/>
              </a:rPr>
              <a:t> 비관적 인식 발전</a:t>
            </a:r>
            <a:endParaRPr b="1" lang="en-US" sz="2200" spc="-1" strike="noStrike">
              <a:solidFill>
                <a:srgbClr val="000000"/>
              </a:solidFill>
              <a:latin typeface="산돌고딕 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8-10-06T10:53:41Z</dcterms:modified>
  <cp:revision>323</cp:revision>
  <dc:subject/>
  <dc:title>중세 유럽의 과학</dc:title>
</cp:coreProperties>
</file>